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D9A-9E15-4CEC-A8B2-D6B0CED8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3CB8-C732-441D-A94B-C2B0FBF7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F37-EC0F-4A7B-B511-E8E2A085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D68-52C3-4117-8A25-592EF313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7C3-6ACF-4B33-8E9C-B0477FD0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E72-B886-43C5-8FCA-3D7EDA71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809-C728-477F-9989-EF813165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4FF-6ACC-479E-837B-DB2F1944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7A3-F5B7-4C6C-8B92-F32E4281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01A-B5D2-4CA5-B89D-7B0563B1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14F-D4D3-444B-97FE-ED7A4C0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709-C21E-4617-8827-572B4FEE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2AD3-B71D-41CB-8825-D4FCDE33F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x\Desktop\inspectie oct 2010 grad 1\Oracle - tipuri de relatii\1.JPG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Notched Right Arrow 7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43" name="Notched Right Arrow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Documents and Settings\x\Desktop\inspectie oct 2010 grad 1\Oracle - tipuri de relatii\10.JPG"/>
          <p:cNvPicPr/>
          <p:nvPr/>
        </p:nvPicPr>
        <p:blipFill>
          <a:blip r:embed="rId1"/>
          <a:stretch/>
        </p:blipFill>
        <p:spPr>
          <a:xfrm>
            <a:off x="-15840" y="0"/>
            <a:ext cx="9166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103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106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x\Desktop\inspectie oct 2010 grad 1\Oracle - tipuri de relatii\11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110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113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"/>
          <p:cNvSpPr/>
          <p:nvPr/>
        </p:nvSpPr>
        <p:spPr>
          <a:xfrm>
            <a:off x="2362320" y="55864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learning.oracle.com/ilearn/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7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118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x\Desktop\inspectie oct 2010 grad 1\Oracle - tipuri de relatii\2.JPG"/>
          <p:cNvPicPr/>
          <p:nvPr/>
        </p:nvPicPr>
        <p:blipFill>
          <a:blip r:embed="rId1"/>
          <a:stretch/>
        </p:blipFill>
        <p:spPr>
          <a:xfrm>
            <a:off x="15840" y="0"/>
            <a:ext cx="91645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Notched Right Arrow 4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47" name="Notched Right Arrow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Notched Right Arrow 5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50" name="Notched Right Arrow 5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x\Desktop\inspectie oct 2010 grad 1\Oracle - tipuri de relatii\3.JP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6880320"/>
          </a:xfrm>
          <a:prstGeom prst="rect">
            <a:avLst/>
          </a:prstGeom>
          <a:ln w="0">
            <a:noFill/>
          </a:ln>
        </p:spPr>
      </p:pic>
      <p:grpSp>
        <p:nvGrpSpPr>
          <p:cNvPr id="53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54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57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x\Desktop\inspectie oct 2010 grad 1\Oracle - tipuri de relatii\4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61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64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x\Desktop\inspectie oct 2010 grad 1\Oracle - tipuri de relatii\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68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71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x\Desktop\inspectie oct 2010 grad 1\Oracle - tipuri de relatii\6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64480"/>
          </a:xfrm>
          <a:prstGeom prst="rect">
            <a:avLst/>
          </a:prstGeom>
          <a:ln w="0">
            <a:noFill/>
          </a:ln>
        </p:spPr>
      </p:pic>
      <p:grpSp>
        <p:nvGrpSpPr>
          <p:cNvPr id="74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75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78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x\Desktop\inspectie oct 2010 grad 1\Oracle - tipuri de relatii\7.JPG"/>
          <p:cNvPicPr/>
          <p:nvPr/>
        </p:nvPicPr>
        <p:blipFill>
          <a:blip r:embed="rId1"/>
          <a:stretch/>
        </p:blipFill>
        <p:spPr>
          <a:xfrm>
            <a:off x="0" y="-15840"/>
            <a:ext cx="9186840" cy="6873840"/>
          </a:xfrm>
          <a:prstGeom prst="rect">
            <a:avLst/>
          </a:prstGeom>
          <a:ln w="0">
            <a:noFill/>
          </a:ln>
        </p:spPr>
      </p:pic>
      <p:grpSp>
        <p:nvGrpSpPr>
          <p:cNvPr id="81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82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85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x\Desktop\inspectie oct 2010 grad 1\Oracle - tipuri de relatii\8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38920"/>
          </a:xfrm>
          <a:prstGeom prst="rect">
            <a:avLst/>
          </a:prstGeom>
          <a:ln w="0">
            <a:noFill/>
          </a:ln>
        </p:spPr>
      </p:pic>
      <p:grpSp>
        <p:nvGrpSpPr>
          <p:cNvPr id="88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89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92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x\Desktop\inspectie oct 2010 grad 1\Oracle - tipuri de relatii\9.JPG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64480"/>
          </a:xfrm>
          <a:prstGeom prst="rect">
            <a:avLst/>
          </a:prstGeom>
          <a:ln w="0">
            <a:noFill/>
          </a:ln>
        </p:spPr>
      </p:pic>
      <p:grpSp>
        <p:nvGrpSpPr>
          <p:cNvPr id="95" name="Notched Right Arrow 2"/>
          <p:cNvGrpSpPr/>
          <p:nvPr/>
        </p:nvGrpSpPr>
        <p:grpSpPr>
          <a:xfrm>
            <a:off x="8101080" y="5992920"/>
            <a:ext cx="718920" cy="718920"/>
            <a:chOff x="8101080" y="5992920"/>
            <a:chExt cx="718920" cy="718920"/>
          </a:xfrm>
        </p:grpSpPr>
        <p:pic>
          <p:nvPicPr>
            <p:cNvPr id="96" name="Notched Right Arrow 2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101080" y="59929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8305920" y="6172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Notched Right Arrow 3"/>
          <p:cNvGrpSpPr/>
          <p:nvPr/>
        </p:nvGrpSpPr>
        <p:grpSpPr>
          <a:xfrm>
            <a:off x="7412040" y="5992920"/>
            <a:ext cx="720720" cy="718920"/>
            <a:chOff x="7412040" y="5992920"/>
            <a:chExt cx="720720" cy="718920"/>
          </a:xfrm>
        </p:grpSpPr>
        <p:pic>
          <p:nvPicPr>
            <p:cNvPr id="99" name="Notched Right Arrow 3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412040" y="59929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10800000">
              <a:off x="7620120" y="617184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10-10-18T16:16:3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